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498-FEED-4E6A-B0F0-A3ABC15F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92A-5506-433C-ACE6-40F26542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810-1CBF-41C8-8435-00BD2C72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63E-92F4-4C7C-A4AF-E8775535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98A3-B286-4345-A783-9DB2CFC6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410-68BE-414E-BD81-4560957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95D7-CFD9-4E8F-BA07-19EDB3A0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C125-9D8D-4F37-AE11-95D3B05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39FD-5B28-4956-ADC7-CD00ECC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6D24-A8C6-4329-A8A3-1C6C40B0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67C5-7C06-43DB-8853-89D05A5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C8B-D1D3-4BA7-BCD3-7448EDB0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CC54-4D6E-49C5-B330-1A4549E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3665-0710-4A8E-B83A-C058A51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B021-1D6D-4419-900E-7E4FD55F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DC60-5ECB-4480-B240-5FA0E567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9B87-686F-4024-BBCC-571CB36E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0A6-B0C2-4FDF-B9FF-27D942DF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E10-966D-4AFB-8229-CB819F43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C9A-A522-4945-8635-C4E307C7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47E-BEC9-4A43-9DD9-69F2A510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A6B-4B15-470A-8316-5B612BA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CC8-1F8D-4793-AFAC-C16C724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CEA-A975-4988-95DE-4D2F5B88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52FD-A50A-49A8-B922-9D56F023217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5A6-956E-4EE7-86A5-02B604CE936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egamatma.pl/uczniowie/powtorka-z-podstawowki/ulamki/ulamki-zwykle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megamatma.pl/uczniowie/powtorka-z-podstawowki/ulamki/ulamki-zwyk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57360"/>
            <a:ext cx="5788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3500280"/>
            <a:ext cx="738648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dstawowe wiadomośc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Rozszerzając lub skracając ułamek nie zmieniamy jego wartości. Dzięki tej własności operacje rozszerzan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i skracania ułamka często wykorzystujemy w działaniach na ułamkach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Każdy ułamek można rozszerzyć, ale nie każdy da się skrócić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050920" y="765000"/>
            <a:ext cx="367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AMIĘTAJ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22680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takie ułamki, których nie da się skrócić (uprościć), takie ułamki nazywamy nieskracalnymi. Ułamki są nieskracalne, wtedy gdy licznik     i mianownik nie mają takich samych dzielników większych od liczby 1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63640" y="4581360"/>
            <a:ext cx="331308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łowo ułamek pochodzi od wywodzącego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ię z łaciny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fractio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, przekładu z arabskiego                    </a:t>
            </a:r>
            <a:r>
              <a:rPr b="0" i="1" lang="pl-PL" sz="2400" spc="-1" strike="noStrike">
                <a:solidFill>
                  <a:srgbClr val="2f1311"/>
                </a:solidFill>
                <a:latin typeface="Arial"/>
              </a:rPr>
              <a:t>kasr</a:t>
            </a: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 - złamany, a zatem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f1311"/>
                </a:solidFill>
                <a:latin typeface="Arial"/>
              </a:rPr>
              <a:t>ułamki to liczby złama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Ogólne pojęcie stosunku dwóch liczb zostało wprowadzone przez pitagorejczyków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w VI w. p.n.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Poprzedzający ich Babilończycy i Egipcjanie używali jedynie ułamków  z licznikiem 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ekawostki historycz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Współczesny sposób zapisu ułamków pochodzi od matematyków hinduskich, zapisywali oni licznik i mianownik, nie używając jednak kreski rozdzielającej. Dodanie kreski rozdzielającej zawdzięczamy Arabom tłumaczącym dzieła Hindusów. W Europie jako pierwszy w swoich pracach znane do dziś oznaczenie ułamków publikuje włoski matematyk Fibonacci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00240" y="237600"/>
            <a:ext cx="42544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łamki zwykłe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ek zwykły to  każde wyrażenie postac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dzie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jest w liczniku (nad kreską ułamkową),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est w mianowniku (pod kreską ułamkową), liczby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uszą być całkowite oraz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różne od zer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059280" y="2565360"/>
                <a:ext cx="649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Mianownik wskazuje, na ile jednakowych części podzielono figurę, </a:t>
            </a: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 licznik - ile tych części zabrano (zamalowano)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Pamiętaj! Aby odczytać jaka część figury została zamalowana, należy podzielić figurę na RÓWNE CZĘŚCI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201080" cy="171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5400720" cy="18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, w których licznik jest mniejszy od mianownika, to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ki właściw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 Przypominam, że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ą one mniejsze od 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708360" y="4365720"/>
                <a:ext cx="79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u&amp;lstrok;amek, jeden, &amp;cacute;wier&amp;cacute;"/>
          <p:cNvPicPr/>
          <p:nvPr/>
        </p:nvPicPr>
        <p:blipFill>
          <a:blip r:embed="rId2"/>
          <a:stretch/>
        </p:blipFill>
        <p:spPr>
          <a:xfrm>
            <a:off x="684360" y="5229360"/>
            <a:ext cx="142848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trzy, &amp;cacute;wier&amp;cacute;, ko&amp;zacute;l&amp;eogon;"/>
          <p:cNvPicPr/>
          <p:nvPr/>
        </p:nvPicPr>
        <p:blipFill>
          <a:blip r:embed="rId3"/>
          <a:stretch/>
        </p:blipFill>
        <p:spPr>
          <a:xfrm>
            <a:off x="5796000" y="364500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&amp;cacute;wier&amp;cacute;, ko&amp;zacute;l&amp;eogon;"/>
          <p:cNvPicPr/>
          <p:nvPr/>
        </p:nvPicPr>
        <p:blipFill>
          <a:blip r:embed="rId4"/>
          <a:stretch/>
        </p:blipFill>
        <p:spPr>
          <a:xfrm>
            <a:off x="826920" y="386064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348000" y="3357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u&amp;lstrok;amek, trzy, &amp;cacute;wierci"/>
          <p:cNvPicPr/>
          <p:nvPr/>
        </p:nvPicPr>
        <p:blipFill>
          <a:blip r:embed="rId6"/>
          <a:stretch/>
        </p:blipFill>
        <p:spPr>
          <a:xfrm>
            <a:off x="5651640" y="5084640"/>
            <a:ext cx="142848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Ułamek niewłaściw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- to taki ułamek, w którym licznik jest większy od mianownika lub równy mianownikowi. Ułamki niewłaściwe są większe lub równe 1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=1                 =11              =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292720" y="4653000"/>
                <a:ext cx="51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87640" y="4653000"/>
                <a:ext cx="549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1280" y="4581360"/>
                <a:ext cx="5652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60" y="38988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60" y="105480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 Black"/>
                <a:ea typeface="Times New Roman"/>
              </a:rPr>
              <a:t>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00720" y="4653000"/>
                <a:ext cx="523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łamki niewłaściwe przedstawione           w postaci całości i ułamka właściwego nazywamy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liczbami mieszanym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7200720" cy="12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ozszerzanie i skracanie.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rozszerzyć mnożąc licznik i mianownik ułamka przez tę samą liczbę całkowitą różną od zera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=               =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Ułamek zwykły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można skrócić dzieląc licznik              i mianownik ułamka przez ich wspólny dzielnik dodatni.</a:t>
            </a:r>
            <a:br>
              <a:rPr sz="2400"/>
            </a:b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p. </a:t>
            </a:r>
            <a:br>
              <a:rPr sz="2400"/>
            </a:b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                                    =                 =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24360" y="2852640"/>
                <a:ext cx="460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427640" y="5084640"/>
                <a:ext cx="79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084640"/>
                <a:ext cx="393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203640" y="2852640"/>
                <a:ext cx="420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48000" y="5084640"/>
                <a:ext cx="419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84720" y="2852640"/>
                <a:ext cx="684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9:49:19Z</dcterms:created>
  <dc:creator>Matematyka</dc:creator>
  <dc:description/>
  <dc:language>en-US</dc:language>
  <cp:lastModifiedBy>x</cp:lastModifiedBy>
  <dcterms:modified xsi:type="dcterms:W3CDTF">2013-04-16T15:29:43Z</dcterms:modified>
  <cp:revision>37</cp:revision>
  <dc:subject/>
  <dc:title>Mianownik wskazuje, na ile jednakowych części podzielono figurę,  a licznik - ile tych części zabrano (zamalowano)           Pamiętaj! Aby odczytać jaka część figury została zamalowana, należy podzielić figurę na RÓWNE CZĘŚCI.</dc:title>
</cp:coreProperties>
</file>